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651-D3B2-4DB0-8266-5197100C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0AF7-CE0F-42C2-8E34-52FEC1EB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8CD-337A-4F3B-9E5B-5D7C2271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260-209C-4E93-B9AA-5C881B1E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FA0-BF6A-46B0-8358-663D5726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408-309A-4583-8B5F-8A4C4724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140-B10F-4345-B614-4FF1305D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CE8-6928-4984-B9BF-92B72B9A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6B7-4216-447B-AA59-DE547134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C29-B823-40EF-BE1F-3AD87E3D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AB3-57B9-4F46-8DFC-6C65718C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C72-3C99-4E17-8188-A5AFCE1B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52B9-EF56-49B8-B00A-4F291A842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9:21:34Z</dcterms:created>
  <dc:creator>SD45</dc:creator>
  <dc:description/>
  <dc:language>en-US</dc:language>
  <cp:lastModifiedBy>SD45</cp:lastModifiedBy>
  <dcterms:modified xsi:type="dcterms:W3CDTF">2008-02-27T19:35:31Z</dcterms:modified>
  <cp:revision>1</cp:revision>
  <dc:subject/>
  <dc:title>Slide 1</dc:title>
</cp:coreProperties>
</file>